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mmburger%5B1%5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E0D-D903-4DD1-A733-A26A8041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970-6C3D-42E3-A273-25750CED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1FB-26D2-4A3C-8D8A-F197F4BD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5DB-9E0D-4657-AF56-F67B265D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2B92-19DD-442E-BE47-4AE19E38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0852-3FB0-414D-B1D2-74FC999F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62AC-8CFB-47F5-8F76-E7C3006F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4903-E147-4A3B-8D2B-F4AEF540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821B-D1C6-401C-976B-ABB77382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7DD8-7AB4-4FB9-83D0-F33ECEB0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C947-427D-4C10-9C4C-FC7A2015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00D6-FC7E-43F1-8167-2659DC56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9EED-C65F-43CB-81BC-DDB26E00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742D-B15F-4E5E-A51B-E5E534CF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FCB2-F1CB-4243-AD90-E959E8C0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F9A0-5FAA-42BB-BE51-B785D4E1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8204-D22B-46BB-9A98-DE0727A5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D83-CEF8-4CEF-AA8A-3062092B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7AF-21A9-4624-9BE5-ED576730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EB2-1FC1-4DF0-84CC-6D2A596B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C56-DC45-4127-81E5-C531337D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C101-12A7-447D-A7D3-5EB753C3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A82-0F28-46EE-B759-A850CED1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E47A-15B4-47F1-85C9-AD1AB312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0414-EF34-4A77-BA41-0F24B43C4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B219-3F90-4E98-B522-914E1EC26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mmburger%5B1%5D.wav"/><Relationship Id="rId3" Type="http://schemas.openxmlformats.org/officeDocument/2006/relationships/audio" Target="../media/mmburger%5B1%5D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533520"/>
            <a:ext cx="80773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How To Do</a:t>
            </a:r>
            <a:br>
              <a:rPr sz="9600"/>
            </a:b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038480"/>
            <a:ext cx="16761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3701880"/>
            <a:ext cx="16765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006800"/>
            <a:ext cx="16761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Q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523880"/>
            <a:ext cx="81532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tart with a “concluding phrase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state your thesis statement a bit differ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ut your essay answer in a larger historical perspec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114800"/>
            <a:ext cx="6553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End of some trend/movement/idea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Beginning of some trend/movement/ide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End of one &amp; beginning of anoth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Do NOT end on the note that this is the reason we are where we are today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Concluding” Paragraph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2743200" y="1595520"/>
            <a:ext cx="3352680" cy="2214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666880" y="3629160"/>
            <a:ext cx="3810240" cy="2009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895480" y="5491080"/>
            <a:ext cx="3505320" cy="106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Put It All Together, And . . .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124080" cy="312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80000"/>
            </a:outerShdw>
          </a:effectLst>
        </p:spPr>
      </p:pic>
      <p:sp>
        <p:nvSpPr>
          <p:cNvPr id="116" name=""/>
          <p:cNvSpPr/>
          <p:nvPr/>
        </p:nvSpPr>
        <p:spPr>
          <a:xfrm>
            <a:off x="228600" y="380880"/>
            <a:ext cx="8763120" cy="94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600"/>
                </a:solidFill>
                <a:latin typeface="Hot Pizza"/>
              </a:rPr>
              <a:t>Ummmmm,  Burger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58672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I Mean,  A Perfect Essay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mburger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mburger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501480"/>
            <a:ext cx="80773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600"/>
                </a:solidFill>
                <a:latin typeface="Hot Pizza"/>
              </a:rPr>
              <a:t>A “Dazzling” D.B.Q.</a:t>
            </a:r>
            <a:br>
              <a:rPr sz="4800"/>
            </a:br>
            <a:r>
              <a:rPr b="0" lang="en-US" sz="4800" spc="-1" strike="noStrike">
                <a:solidFill>
                  <a:srgbClr val="008600"/>
                </a:solidFill>
                <a:latin typeface="Hot Pizza"/>
              </a:rPr>
              <a:t>Is Like a Tasty Hambur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2855" t="3329" r="5716" b="4203"/>
          <a:stretch/>
        </p:blipFill>
        <p:spPr>
          <a:xfrm>
            <a:off x="2567160" y="2286000"/>
            <a:ext cx="4138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1143000" y="1900080"/>
            <a:ext cx="3352680" cy="221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133720" y="4660920"/>
            <a:ext cx="6172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“Top Bun”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your essa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-6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0880"/>
            <a:ext cx="80769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600"/>
                </a:solidFill>
                <a:latin typeface="Hot Pizza"/>
              </a:rPr>
              <a:t>The Introductory Paragrap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14400" y="1600200"/>
            <a:ext cx="76201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ablis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IME &amp; PLAC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reate a clear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SIS STATEM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[underline or highlight it!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ude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B-TOPIC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r categories you will discuss to support your thesis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cus on the question at hand—do NOT begin with a “flowery” sent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 “laundry lis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014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Introductory Paragraph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19520" y="4280040"/>
            <a:ext cx="586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“tasty” par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your essa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-12 sentences+ per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1800360"/>
            <a:ext cx="3809880" cy="2009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“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Meat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” Paragraph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455840"/>
            <a:ext cx="80773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ntify your sub-topic or category in the first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 the documents that are relevant to support the ideas in the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most of the documents gi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ring in supportive outside information. 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This is critic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*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.i.’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= “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tsid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form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were these documents se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“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Meat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” Paragraph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608120"/>
            <a:ext cx="838188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ttribution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ho is this pers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y might they be significa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is the point of view (POV) of the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ow reliable and accurate is the sourc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is the tone or intent of the document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other information does this document call to mind?  Use all available cl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609588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Remember, docs. can be used in a variety of way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04920"/>
            <a:ext cx="853452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8600"/>
                </a:solidFill>
                <a:latin typeface="Hot Pizza"/>
              </a:rPr>
              <a:t>Questions to Ask Yourself About the Docu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2057400"/>
            <a:ext cx="838224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687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Thomas Paine,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in his pamphlet, </a:t>
            </a:r>
            <a:r>
              <a:rPr b="1" i="1" lang="en-US" sz="2700" spc="-1" strike="noStrike">
                <a:solidFill>
                  <a:srgbClr val="fa0000"/>
                </a:solidFill>
                <a:latin typeface="Comic Sans MS"/>
              </a:rPr>
              <a:t>Common Sense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,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said:  “………………….”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687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Joe Shmoe,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a mid-Western delegate to the Republic convention in 1912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, agreed with…..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687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19c historian, Frederick Jackson Turner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, felt that ………………….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(Doc. 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621648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3333cc"/>
                </a:solidFill>
                <a:uFillTx/>
                <a:latin typeface="Comic Sans MS"/>
              </a:rPr>
              <a:t>NEVER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 begin with:  In Document 3, …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57040"/>
            <a:ext cx="8763120" cy="14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How to Reference a Document in Your Essay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100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14600" y="4019400"/>
            <a:ext cx="6172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“Bottom Bun”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your ess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 holds it all together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-4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3000" y="2290680"/>
            <a:ext cx="3505320" cy="1062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380880"/>
            <a:ext cx="82296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The Concluding </a:t>
            </a:r>
            <a:br>
              <a:rPr sz="5000"/>
            </a:b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Paragrap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9:49:27Z</dcterms:created>
  <dc:creator>Ms. Susan M. Pojer</dc:creator>
  <dc:description/>
  <dc:language>en-US</dc:language>
  <cp:lastModifiedBy> </cp:lastModifiedBy>
  <dcterms:modified xsi:type="dcterms:W3CDTF">2007-04-06T18:59:16Z</dcterms:modified>
  <cp:revision>98</cp:revision>
  <dc:subject/>
  <dc:title>How To Do an AHAP DNQ</dc:title>
</cp:coreProperties>
</file>